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F7B8-1E73-431C-B6E4-7E79F8E8532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330B-EBFE-4900-92C5-C85034BCB7F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1E60-93B9-4373-9AB1-1C6E1C3C338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5E6-8937-4123-A33E-95BAA647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354-2D64-4526-B8A7-D1E2BDD8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E8E09-353F-4549-89A8-DE84521D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20334-DF79-4E48-B74F-89DCA69F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BFDD7-C9E1-4D5A-B5C3-A93C5793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27020-CBBF-4F0D-A612-F9A35199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5A5F9-0448-47C6-B4FF-BF21E433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7232C-C35E-4CAA-AF16-CE69FDE4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DA450-6805-44D7-BB25-7C8B2FE2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A4B02-DA5F-4558-8C50-1F15AFB4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38FD5-0AAC-4A14-9D8C-CBE658E7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4C286-CE4B-48A6-BE51-6715C0BA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D4D-99C0-4342-9239-347B9C78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401AE-CBB7-40B1-962A-659630B9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FEEA0-7796-42CC-BF06-68AF2FAA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0A6C9-D23C-4CDB-8226-3EF1153D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97257-049B-42D9-99AF-09A103EE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9B8A0-D179-4402-BC8E-06203BDB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C7C5B-90C7-41BC-802B-CC107B8A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D8415-5825-41F6-BBBD-C9DD95E7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75449-0D8F-403D-A97B-549949CC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F9783-0931-4967-BB78-B7030420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C0496-A46E-45A5-8A5C-C1043404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F19-7122-43A3-B112-B796B2A2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3F7AA-C2A3-4D8C-9336-6D14B2E9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25946-B1AE-45F5-9E6A-3DB39A2C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2C67D-90BA-45BA-9A68-1E6484F1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C83D1-F637-4D55-B116-3140C7B9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D2973-83BE-43B2-B0E8-93415B73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0D8C7-E636-4C3F-B3E4-9CE7A320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A4A98-17D8-407C-AE5E-181FE42B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1D65E-FFAA-47F7-B8BD-BAA572F0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9FCC9-BB10-43A2-8D5B-BB899DE3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42B44-2398-410D-9588-44EE78DD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2127-C906-4B44-A222-4119389A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7A7CF-3996-4FCB-BE4E-515AFB83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831CF-E417-448E-81B0-DBC575E7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7CD99-DACD-43C9-9360-96EE1A0A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50724-8DF4-46AD-88AE-8417AE82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78CF4-B50C-447F-B93E-6016C299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9A304-6D66-48FF-B25B-1ED5DDD4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0BEF4-47B7-4570-8B60-70448672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2935E-A9CF-4CF7-9594-110A1CA4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456FF-01C0-47D6-ABCF-D4998730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20388-CA4B-4B12-8EA5-42A11620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5E80-383D-4BEA-AD05-109EB44E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CD0C8-5722-417C-9170-DEA5C37A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0CD2D-36E3-4706-BB6E-A8CF4119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B1792-4D20-42AC-8D29-F3D66821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0167D-39ED-4BCC-A1F1-2D80A20E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9477A-0531-4BA5-BCD8-F2E9ACC7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0D2FF-3D41-4C17-BCE9-F54D591A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7ACBDA-F7D9-47FB-95E6-FAD0CCD8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89E25-22F8-4C1D-AE21-C9742521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1C525-4954-45E4-B5F4-27FAA682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CEB02-5568-4A34-916F-5D15F9F9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14C0-E573-41FC-947B-D1203FCB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2CA2C-A291-4C50-B8CD-294D0F29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6A3C6-3536-4FC5-A6BE-32992CE8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10330-380E-4863-B4BD-51528B05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ABACA-FAE0-431A-8264-1D2E3EAE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E8B62-2985-4F44-8B50-ED67CDDE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6EB5C-A729-4516-B90E-74CF2288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26284-F09A-4229-9B9A-07CCD29B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1D871-78DE-40C0-AD8F-CB3F61D9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25F35-C1BC-49D0-84A3-244CD92F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0A289-AD7F-4899-AE1F-37EE0D87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11BC-641D-43FE-A87D-DEEA1C5D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414DE-651B-4D21-92EF-E0F89132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F7EC4-8164-48AA-817F-F32AFBF6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FF3F5-1583-4610-9FF1-82C3E8AA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A795E-5A49-42A8-9FB4-FC641DF2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305DE-0ECA-427F-A731-37F6332E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AB11B-FE2F-4E46-AD38-90E49AE2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120ED-7BD5-4563-BB82-E02BC0BC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35091-C38C-4E4A-8E3A-29AC90C9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9EC71-BF45-42B8-9AC9-B3C2BB2D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F733B6-E352-4B3B-B375-425CD655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2CD8-276A-4D96-B2FD-B6B9465B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30EC88-18B0-41FB-9E67-38EF3500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D8287D-9398-4492-9C2C-307EB0C3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E81A4-EA59-4E30-9BEB-983098ED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F9F711-F1F6-4E7C-BA69-34F6A4F1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6CE3C2-D797-474A-BD07-45CB4C02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D252A2-0055-4A6F-857D-421A57ED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3126A7-03BC-4504-A4DD-D4922C61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3C873E-92E9-476E-8644-FCC0B6D0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6E5167-949A-4FC4-9BF3-CCD8FC41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75E95C-9891-43C5-ACC6-D8EAFB2F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4419-2875-4A8C-992D-D6246C81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CBF15B-AEAA-4E10-A8A8-B103D3EA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9A2A74-16C0-4112-AA36-653B8B64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A3A54-4CEF-4FAD-992D-ADD3F49B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E6D9DA-BEB3-4C4B-B26E-7865D7ED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EEF66B-AC77-4655-AB9A-75A75CCE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64C1B3-414C-440B-B059-861EFD99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2832B-2E6B-4D13-8AEF-4349DDB3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33A0D-0E54-4A70-94CF-7D3521EC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E9B0EC-B4BA-4168-A1F4-D73E7E93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07605-313F-4AA6-A3D4-6783BB02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B230-38D3-426F-B12A-AA5D9C8E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FDD2C0-7B37-4F30-9505-015512AC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5DB43-71D2-444E-9FB0-6BFEF951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CF4C3F-2B3A-4415-8228-82A568BC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B1DC09-22ED-4CF5-A335-8274C13A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BBA9C9-BB37-4E3B-AE73-411511EE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E1702-87A3-46DD-B0B0-70F5AFC3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4FC38E-AE2C-4815-B281-7E8F48C5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6B2921-588C-4993-8BFB-F85545B8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2ED46A-4BBB-4F2F-A1CD-45701508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D327EC-21A4-4F0A-BB47-8229A778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891-119D-4CCF-9434-98E98213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9860-F093-4009-BD04-BAF82D2A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A55A0-F092-450B-995A-B7EBC1FC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4D552D-7E84-4773-8392-52ABAAF4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3CF958-CF12-4750-8F3E-7E2DB504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16A073-0A84-4CF3-AE7D-A3BF1A66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2C54D7-9239-4452-AB0B-BEDFBC4D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2F7794-EDDA-44A5-9B6A-F2F1FE97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7D1D71-7374-4245-85C2-DC628FC7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595507-9A5B-4D46-9694-0F793CF4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D3BE7E-8BC0-43F8-8ECF-40036DF7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C0BFF5-7E1F-4DF8-B938-4935E284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FEEB-435F-48BB-BC98-2F09CA75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880345-66B2-4275-B25B-5A14AE8F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507EF3-4D2A-4980-A2F6-FB76DD52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DAFFF5-D226-4B29-86BA-D5984EEA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10134-9F61-47C4-ADD6-6C41D1CC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19247-3F7F-4710-BDF6-624D64D5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448B87-BAFB-4668-8773-E9FD056B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C852B-1A74-44F4-B3EF-B7F68637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E1BA-A24C-415B-A02A-24DED332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09D0-9618-4177-9BED-3CC880E3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6754-829E-4599-BE4A-E339EDF1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C219B-F0A7-4326-B30F-26454ED6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9BDA-0498-4200-8CD4-439B813D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94A21-8088-47A1-859C-F3F13F71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AD8F-57A5-4B05-AC25-3FCF21AC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5765-56A5-4B34-A616-A988EB56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5E8E-07B5-482D-9C6A-6C46A2B0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0D2C-1AB7-4E1F-8760-659A4B76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8F59-22F3-44BF-B0E1-6A4BCA6C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47770-6047-4E18-BC5F-BF3A304B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7CD44-FB71-464E-B6B2-73D97F87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CC9E6-51FF-47C6-A59A-9B005ECB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181AD-F2EE-4FC9-BF20-603BFE1F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0C982-2083-4F0C-97A8-68C06CDE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370D2-C3FF-4F68-B6AF-C3A85756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42A3-3AC3-4C65-ADDC-8157F7CD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23C98-454B-4D77-8F2E-D99FE948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D26-FA81-4E6C-A6B5-CEE46776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90795-4A29-4C46-AE1C-F4C4E660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B516-B95E-4065-867F-59EA302A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EA273-E23D-4225-AEFF-B1FBD232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9FE95-DBBD-4CB4-9AC4-06668C69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3DC2D-6162-4EDE-BD47-DCFC2D99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ACF1B-2AA9-43A2-B5C3-DB924477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1990F-84E9-404E-9227-516A338A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58DB8-1361-483E-A1E7-38B9CE94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F4C00-CA79-4443-9352-2BEAE9A3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4BD99-3BFE-4BF2-B27F-71B564C0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956-C191-46AC-98C3-4675C07A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56583-A75A-4E2A-89C0-CA45B937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16208-DCB1-46FE-A511-FF8AB6C6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7F05C-51FD-41F4-BD4E-3ABA6849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64BE5-9366-45DF-B369-2BDD8DE8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2360C-83D5-4F65-B227-37BB5F31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30BFE-A817-4DAA-9F0D-10E447BF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E7404-3DBB-4D9D-A57C-F83B8036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7395D-75B6-402D-9099-0C5DA34B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F3FA6-43EA-4173-85D1-B48C2B65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F9D36-A464-4266-BEC3-AF759CED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11A-FA16-4AF2-B137-E48BD28B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8049E-27BF-4D00-8669-C41DFF56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D81D6-D524-4011-903F-CEDA9C5F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66F0A-7B70-421F-98FF-8221160C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7D5AF-F47F-4EB9-A57F-ACC3BB87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D7095-514E-4266-9ECB-4F7C7659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2FE9F-E71C-48ED-B9D5-883EB8CD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D9785-CF10-4FEA-8147-C8F5E0D5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04316-BA73-473C-838D-5E2CE56A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5C540-4763-4B3A-975A-3F20A21F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932E4-D851-4AC8-A947-FBAEDAC3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167-AD82-4181-A82C-B69BB9DF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D27B3-E922-4A6D-8B9C-B78DCAB7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2C021-25D5-449D-B1A8-0E657D5A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1CEA9-D747-4F0A-BC31-A2D4A90A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76E3B-6840-48CA-919F-098564C6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F16C2-1351-459B-AE3E-2617154D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159FC-C80A-4741-AB79-C82D27AE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707CE-54AF-4353-9DF2-D21E0211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EF452-71E0-4E44-B4A2-A6781E1D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2EFA4-E532-4BE1-A96E-3A8B4E1A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6CA5A-4868-464F-B6F3-F03EA2D5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D4E-EAF1-4E86-B7C2-71C3BDA2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4B078-5853-4A57-ABBC-332439F8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1C70A-C645-41D8-BA65-D5C48F12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6A867-FEE8-4AC9-904D-7EE09731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15DD3-D546-40E4-8D50-9D40E7CE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163E9-2286-4ED0-909E-2EFC5F29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A0722-48D0-41AA-A7A3-806F6E53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A3B3D-43EA-4C6B-92B4-DA201C87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3BCF2-8207-4F69-B504-F4BD4B3A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E8925-FAAD-4F1B-B161-B4F82118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1156D-843B-4632-8CAD-820C4BB8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DED-490C-4A48-BBE8-AD6CB0F4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E3B61-2C14-4F31-B5C7-1C4F2697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4880E-F1B9-4DAE-9C0B-F5681FED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E1630-5070-4323-991F-5F0F8FAE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5F6F9-9981-4B74-AEC3-A17A4872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7E956-1F77-482C-90A5-9B485440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69CD6-4E6C-45A7-9D7B-3ED1BCEB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B3502-17EF-4537-9919-7AD627B7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4919B-8658-410B-A95A-69E521AD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C4D8D-63B4-4811-9025-97A7E6C7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C2487-54FC-40A1-AC6C-E493DA77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4180-4BFA-448C-BAFE-FEB333F73516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236D-D363-4637-A7F2-0EB0678E2A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2924-BC28-41C4-87B4-EB57015308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9ADD-F0FF-49CD-BE08-0230ACE31E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F725-287D-45EB-B32B-CFDEA011FC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CC95-D303-4D39-980D-1FF2BBA91F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23CF-4304-4732-9195-015C8F8F3C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4058-8C69-48C9-B63B-4809BC7567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5EFA-9473-43A6-8EB4-47280552DA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AA9B-DCAC-423D-BBE7-EF6F77BE4B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DD9C-227D-45EA-85E8-2E2921BDABCC}" type="slidenum">
              <a:rPr b="1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9ACF-3617-42DC-9BF7-98C0C6BAFD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3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4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  <p:sp>
            <p:nvSpPr>
              <p:cNvPr id="135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</p:grpSp>
        <p:grpSp>
          <p:nvGrpSpPr>
            <p:cNvPr id="136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7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  <p:sp>
            <p:nvSpPr>
              <p:cNvPr id="138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</p:grpSp>
        <p:sp>
          <p:nvSpPr>
            <p:cNvPr id="13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4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99"/>
                </a:solidFill>
                <a:latin typeface="Tahoma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E8B9-CA62-4D84-92EC-8FFE5984456C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4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85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88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89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90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99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0133-196D-48C6-B14B-5D10EA2B5DCD}" type="slidenum">
              <a:rPr b="1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1A40-C3B6-4A1F-951E-1406B39D64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EF83-CE19-4D57-8BA8-67E4A30530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FF88-832B-4EAB-B500-93357D32DB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EF73-ACDD-4590-BFAF-298819D66A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ISP&#25836;&#23450;&#33287;&#22519;&#34892;&#27969;&#31243;&#22294;.doc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32000" y="2133360"/>
            <a:ext cx="6549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成人心智功能障礙者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       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服務綱要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1332000" y="4508280"/>
            <a:ext cx="6045120" cy="7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98989"/>
                </a:solidFill>
                <a:latin typeface="Arial"/>
                <a:ea typeface="華康中圓體"/>
              </a:rPr>
              <a:t>          </a:t>
            </a:r>
            <a:r>
              <a:rPr b="0" lang="zh-TW" sz="2400" spc="-1" strike="noStrike">
                <a:solidFill>
                  <a:srgbClr val="898989"/>
                </a:solidFill>
                <a:latin typeface="標楷體"/>
                <a:ea typeface="標楷體"/>
              </a:rPr>
              <a:t>第一社會福利基金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77932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003399"/>
                </a:solidFill>
                <a:latin typeface="Tahoma"/>
              </a:rPr>
              <a:t>二</a:t>
            </a: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003399"/>
                </a:solidFill>
                <a:latin typeface="Tahoma"/>
              </a:rPr>
              <a:t>、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服務綱要範疇與架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1042920" y="213336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分為「基礎服務篇」與「技藝陶冶篇」兩大部分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--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八大領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Rectangle 5"/>
          <p:cNvSpPr/>
          <p:nvPr/>
        </p:nvSpPr>
        <p:spPr>
          <a:xfrm>
            <a:off x="4716360" y="3856320"/>
            <a:ext cx="365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四種能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實用學科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人際溝通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社會技能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健康維護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1" name="Rectangle 6"/>
          <p:cNvSpPr/>
          <p:nvPr/>
        </p:nvSpPr>
        <p:spPr>
          <a:xfrm>
            <a:off x="900000" y="3856320"/>
            <a:ext cx="37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四種生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居家生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社區生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休閒生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工作生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三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基礎服務篇介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基礎服務篇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涵蓋「人際溝通」、「社會技能」、「居家生活」、「休閒生活」、「社區生活」、「實用學科」、「健康維護」與「工作人格」等共八個個人日常生活面向的領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四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技藝陶冶篇介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2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技藝陶冶篇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涵蓋的作業活動包括目前國內較常見的「西點烘焙」、「餐飲製作」、「代工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手工藝品製作」、「清潔工作」、「資源回收」等工作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33cc"/>
                </a:solidFill>
                <a:latin typeface="新細明體"/>
              </a:rPr>
              <a:t>貳、應用服務綱要於「個別化服務計劃</a:t>
            </a:r>
            <a:r>
              <a:rPr b="1" lang="en-US" sz="3000" spc="-1" strike="noStrike">
                <a:solidFill>
                  <a:srgbClr val="0033cc"/>
                </a:solidFill>
                <a:latin typeface="新細明體"/>
              </a:rPr>
              <a:t>(ISP)</a:t>
            </a:r>
            <a:r>
              <a:rPr b="1" lang="zh-TW" sz="3000" spc="-1" strike="noStrike">
                <a:solidFill>
                  <a:srgbClr val="0033cc"/>
                </a:solidFill>
                <a:latin typeface="新細明體"/>
              </a:rPr>
              <a:t>」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Tahoma"/>
              </a:rPr>
              <a:t>撰寫時間：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新生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開始接受服務後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0-4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天內完成「個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化服務計劃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ISP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」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舊生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結束上年度服務計畫，完成服務評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及服務摘要報告後，在下年度開始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務之前重評需求後，完成新年度「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別化服務計劃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ISP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」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見流程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3412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Tahoma"/>
              </a:rPr>
              <a:t>ISP</a:t>
            </a:r>
            <a:r>
              <a:rPr b="1" lang="zh-TW" sz="3400" spc="-1" strike="noStrike">
                <a:solidFill>
                  <a:srgbClr val="003399"/>
                </a:solidFill>
                <a:latin typeface="Tahoma"/>
              </a:rPr>
              <a:t>擬定、執行與評量流程</a:t>
            </a:r>
            <a:r>
              <a:rPr b="1" lang="zh-TW" sz="15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Tahoma"/>
              </a:rPr>
              <a:t>p17</a:t>
            </a:r>
            <a:endParaRPr b="0" lang="en-US" sz="1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9" name="文字方塊 5"/>
          <p:cNvSpPr/>
          <p:nvPr/>
        </p:nvSpPr>
        <p:spPr>
          <a:xfrm>
            <a:off x="285840" y="1428840"/>
            <a:ext cx="928440" cy="11296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評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0" name="文字方塊 6"/>
          <p:cNvSpPr/>
          <p:nvPr/>
        </p:nvSpPr>
        <p:spPr>
          <a:xfrm>
            <a:off x="1428840" y="1428840"/>
            <a:ext cx="1055520" cy="7030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撰寫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服務需求評估摘要表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64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1" name="文字方塊 7"/>
          <p:cNvSpPr/>
          <p:nvPr/>
        </p:nvSpPr>
        <p:spPr>
          <a:xfrm>
            <a:off x="2714760" y="1428840"/>
            <a:ext cx="1071360" cy="88632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擬定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P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2" name="文字方塊 8"/>
          <p:cNvSpPr/>
          <p:nvPr/>
        </p:nvSpPr>
        <p:spPr>
          <a:xfrm>
            <a:off x="4000680" y="1428840"/>
            <a:ext cx="1071360" cy="87876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召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SP</a:t>
            </a:r>
            <a:r>
              <a:rPr b="0" lang="zh-TW" sz="2100" spc="-1" strike="noStrike">
                <a:solidFill>
                  <a:srgbClr val="000000"/>
                </a:solidFill>
                <a:latin typeface="Calibri"/>
              </a:rPr>
              <a:t>會議</a:t>
            </a:r>
            <a:endParaRPr b="0" lang="en-US" sz="2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3" name="文字方塊 9"/>
          <p:cNvSpPr/>
          <p:nvPr/>
        </p:nvSpPr>
        <p:spPr>
          <a:xfrm>
            <a:off x="5286240" y="1428840"/>
            <a:ext cx="1071720" cy="88632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執行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P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4" name="文字方塊 11"/>
          <p:cNvSpPr/>
          <p:nvPr/>
        </p:nvSpPr>
        <p:spPr>
          <a:xfrm>
            <a:off x="7715160" y="1428840"/>
            <a:ext cx="1071720" cy="7030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撰寫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半年服務摘要表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763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5" name="文字方塊 12"/>
          <p:cNvSpPr/>
          <p:nvPr/>
        </p:nvSpPr>
        <p:spPr>
          <a:xfrm>
            <a:off x="6572160" y="1428840"/>
            <a:ext cx="928800" cy="11296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評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6" name="向右箭號 13"/>
          <p:cNvSpPr/>
          <p:nvPr/>
        </p:nvSpPr>
        <p:spPr>
          <a:xfrm>
            <a:off x="1214280" y="1785960"/>
            <a:ext cx="214560" cy="142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向右箭號 14"/>
          <p:cNvSpPr/>
          <p:nvPr/>
        </p:nvSpPr>
        <p:spPr>
          <a:xfrm>
            <a:off x="2500200" y="1785960"/>
            <a:ext cx="214560" cy="142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8" name="向右箭號 15"/>
          <p:cNvSpPr/>
          <p:nvPr/>
        </p:nvSpPr>
        <p:spPr>
          <a:xfrm>
            <a:off x="6357960" y="17859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9" name="向右箭號 16"/>
          <p:cNvSpPr/>
          <p:nvPr/>
        </p:nvSpPr>
        <p:spPr>
          <a:xfrm>
            <a:off x="5072040" y="17859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0" name="向右箭號 17"/>
          <p:cNvSpPr/>
          <p:nvPr/>
        </p:nvSpPr>
        <p:spPr>
          <a:xfrm>
            <a:off x="3786120" y="1785960"/>
            <a:ext cx="214560" cy="142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1" name="向右箭號 18"/>
          <p:cNvSpPr/>
          <p:nvPr/>
        </p:nvSpPr>
        <p:spPr>
          <a:xfrm>
            <a:off x="7500960" y="17859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82" name="群組 23"/>
          <p:cNvGrpSpPr/>
          <p:nvPr/>
        </p:nvGrpSpPr>
        <p:grpSpPr>
          <a:xfrm>
            <a:off x="142920" y="2501280"/>
            <a:ext cx="1079280" cy="1603080"/>
            <a:chOff x="142920" y="2501280"/>
            <a:chExt cx="1079280" cy="1603080"/>
          </a:xfrm>
        </p:grpSpPr>
        <p:sp>
          <p:nvSpPr>
            <p:cNvPr id="883" name="文字方塊 19"/>
            <p:cNvSpPr/>
            <p:nvPr/>
          </p:nvSpPr>
          <p:spPr>
            <a:xfrm>
              <a:off x="285840" y="2501280"/>
              <a:ext cx="936360" cy="459720"/>
            </a:xfrm>
            <a:prstGeom prst="rect">
              <a:avLst/>
            </a:prstGeom>
            <a:gradFill rotWithShape="0">
              <a:gsLst>
                <a:gs pos="0">
                  <a:srgbClr val="ffff80"/>
                </a:gs>
                <a:gs pos="100000">
                  <a:srgbClr val="ffffd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Calibri"/>
                </a:rPr>
                <a:t>觀察</a:t>
              </a:r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884" name="文字方塊 20"/>
            <p:cNvSpPr/>
            <p:nvPr/>
          </p:nvSpPr>
          <p:spPr>
            <a:xfrm>
              <a:off x="285840" y="3072960"/>
              <a:ext cx="936360" cy="459720"/>
            </a:xfrm>
            <a:prstGeom prst="rect">
              <a:avLst/>
            </a:prstGeom>
            <a:gradFill rotWithShape="0">
              <a:gsLst>
                <a:gs pos="0">
                  <a:srgbClr val="ffff80"/>
                </a:gs>
                <a:gs pos="100000">
                  <a:srgbClr val="ffffd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Calibri"/>
                </a:rPr>
                <a:t>晤談</a:t>
              </a:r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885" name="文字方塊 21"/>
            <p:cNvSpPr/>
            <p:nvPr/>
          </p:nvSpPr>
          <p:spPr>
            <a:xfrm>
              <a:off x="285840" y="3644640"/>
              <a:ext cx="936360" cy="459720"/>
            </a:xfrm>
            <a:prstGeom prst="rect">
              <a:avLst/>
            </a:prstGeom>
            <a:gradFill rotWithShape="0">
              <a:gsLst>
                <a:gs pos="0">
                  <a:srgbClr val="ffff80"/>
                </a:gs>
                <a:gs pos="100000">
                  <a:srgbClr val="ffffd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Calibri"/>
                </a:rPr>
                <a:t>閱讀</a:t>
              </a:r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886" name="左大括弧 22"/>
            <p:cNvSpPr/>
            <p:nvPr/>
          </p:nvSpPr>
          <p:spPr>
            <a:xfrm>
              <a:off x="142920" y="2643120"/>
              <a:ext cx="142560" cy="135756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3600 h 1357560"/>
                <a:gd name="textAreaBottom" fmla="*/ 1353960 h 135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5"/>
                    <a:pt x="10800" y="189"/>
                  </a:cubicBezTo>
                  <a:lnTo>
                    <a:pt x="10800" y="10611"/>
                  </a:lnTo>
                  <a:cubicBezTo>
                    <a:pt x="10800" y="10706"/>
                    <a:pt x="5400" y="10800"/>
                    <a:pt x="0" y="10800"/>
                  </a:cubicBezTo>
                  <a:cubicBezTo>
                    <a:pt x="5400" y="10800"/>
                    <a:pt x="10800" y="10895"/>
                    <a:pt x="10800" y="10989"/>
                  </a:cubicBezTo>
                  <a:lnTo>
                    <a:pt x="10800" y="21411"/>
                  </a:lnTo>
                  <a:cubicBezTo>
                    <a:pt x="10800" y="2150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e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99"/>
                </a:solidFill>
                <a:latin typeface="Tahoma"/>
              </a:endParaRPr>
            </a:p>
          </p:txBody>
        </p:sp>
      </p:grpSp>
      <p:grpSp>
        <p:nvGrpSpPr>
          <p:cNvPr id="887" name="群組 33"/>
          <p:cNvGrpSpPr/>
          <p:nvPr/>
        </p:nvGrpSpPr>
        <p:grpSpPr>
          <a:xfrm>
            <a:off x="142920" y="4358160"/>
            <a:ext cx="1079280" cy="2021760"/>
            <a:chOff x="142920" y="4358160"/>
            <a:chExt cx="1079280" cy="2021760"/>
          </a:xfrm>
        </p:grpSpPr>
        <p:sp>
          <p:nvSpPr>
            <p:cNvPr id="888" name="文字方塊 25"/>
            <p:cNvSpPr/>
            <p:nvPr/>
          </p:nvSpPr>
          <p:spPr>
            <a:xfrm>
              <a:off x="285840" y="6072840"/>
              <a:ext cx="936360" cy="307080"/>
            </a:xfrm>
            <a:prstGeom prst="rect">
              <a:avLst/>
            </a:prstGeom>
            <a:gradFill rotWithShape="0">
              <a:gsLst>
                <a:gs pos="0">
                  <a:srgbClr val="ffff80"/>
                </a:gs>
                <a:gs pos="100000">
                  <a:srgbClr val="ffffd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Calibri"/>
                </a:rPr>
                <a:t>需求確認</a:t>
              </a:r>
              <a:endParaRPr b="0" lang="en-US" sz="1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889" name="左大括弧 28"/>
            <p:cNvSpPr/>
            <p:nvPr/>
          </p:nvSpPr>
          <p:spPr>
            <a:xfrm>
              <a:off x="142920" y="4500360"/>
              <a:ext cx="142560" cy="178596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3600 h 1785960"/>
                <a:gd name="textAreaBottom" fmla="*/ 1782360 h 178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2"/>
                    <a:pt x="10800" y="144"/>
                  </a:cubicBezTo>
                  <a:lnTo>
                    <a:pt x="10800" y="10656"/>
                  </a:lnTo>
                  <a:cubicBezTo>
                    <a:pt x="10800" y="10728"/>
                    <a:pt x="5400" y="10800"/>
                    <a:pt x="0" y="10800"/>
                  </a:cubicBezTo>
                  <a:cubicBezTo>
                    <a:pt x="5400" y="10800"/>
                    <a:pt x="10800" y="10872"/>
                    <a:pt x="10800" y="10944"/>
                  </a:cubicBezTo>
                  <a:lnTo>
                    <a:pt x="10800" y="21456"/>
                  </a:lnTo>
                  <a:cubicBezTo>
                    <a:pt x="10800" y="215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e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890" name="文字方塊 30"/>
            <p:cNvSpPr/>
            <p:nvPr/>
          </p:nvSpPr>
          <p:spPr>
            <a:xfrm>
              <a:off x="285840" y="4929480"/>
              <a:ext cx="936360" cy="307080"/>
            </a:xfrm>
            <a:prstGeom prst="rect">
              <a:avLst/>
            </a:prstGeom>
            <a:gradFill rotWithShape="0">
              <a:gsLst>
                <a:gs pos="0">
                  <a:srgbClr val="ffff80"/>
                </a:gs>
                <a:gs pos="100000">
                  <a:srgbClr val="ffffd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Calibri"/>
                </a:rPr>
                <a:t>需求排序</a:t>
              </a:r>
              <a:endParaRPr b="0" lang="en-US" sz="1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891" name="文字方塊 31"/>
            <p:cNvSpPr/>
            <p:nvPr/>
          </p:nvSpPr>
          <p:spPr>
            <a:xfrm>
              <a:off x="285840" y="5501160"/>
              <a:ext cx="936360" cy="307080"/>
            </a:xfrm>
            <a:prstGeom prst="rect">
              <a:avLst/>
            </a:prstGeom>
            <a:gradFill rotWithShape="0">
              <a:gsLst>
                <a:gs pos="0">
                  <a:srgbClr val="ffff80"/>
                </a:gs>
                <a:gs pos="100000">
                  <a:srgbClr val="ffffd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Calibri"/>
                </a:rPr>
                <a:t>需求選擇</a:t>
              </a:r>
              <a:endParaRPr b="0" lang="en-US" sz="1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892" name="文字方塊 32"/>
            <p:cNvSpPr/>
            <p:nvPr/>
          </p:nvSpPr>
          <p:spPr>
            <a:xfrm>
              <a:off x="285840" y="4358160"/>
              <a:ext cx="936360" cy="307080"/>
            </a:xfrm>
            <a:prstGeom prst="rect">
              <a:avLst/>
            </a:prstGeom>
            <a:gradFill rotWithShape="0">
              <a:gsLst>
                <a:gs pos="0">
                  <a:srgbClr val="ffff80"/>
                </a:gs>
                <a:gs pos="100000">
                  <a:srgbClr val="ffffd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Calibri"/>
                </a:rPr>
                <a:t>需求評估</a:t>
              </a:r>
              <a:endParaRPr b="0" lang="en-US" sz="1400" spc="-1" strike="noStrike">
                <a:solidFill>
                  <a:srgbClr val="333399"/>
                </a:solidFill>
                <a:latin typeface="Tahoma"/>
              </a:endParaRPr>
            </a:p>
          </p:txBody>
        </p:sp>
      </p:grpSp>
      <p:sp>
        <p:nvSpPr>
          <p:cNvPr id="893" name="文字方塊 34"/>
          <p:cNvSpPr/>
          <p:nvPr/>
        </p:nvSpPr>
        <p:spPr>
          <a:xfrm>
            <a:off x="4642920" y="2643120"/>
            <a:ext cx="911880" cy="385776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擬定短期服務策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短期教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4" name="文字方塊 35"/>
          <p:cNvSpPr/>
          <p:nvPr/>
        </p:nvSpPr>
        <p:spPr>
          <a:xfrm>
            <a:off x="5790240" y="2643120"/>
            <a:ext cx="546120" cy="385776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執　　　　行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5" name="向右箭號 36"/>
          <p:cNvSpPr/>
          <p:nvPr/>
        </p:nvSpPr>
        <p:spPr>
          <a:xfrm>
            <a:off x="5572080" y="42861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2d05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6" name="文字方塊 37"/>
          <p:cNvSpPr/>
          <p:nvPr/>
        </p:nvSpPr>
        <p:spPr>
          <a:xfrm>
            <a:off x="6393240" y="2643120"/>
            <a:ext cx="911880" cy="17146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形成性評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7" name="文字方塊 38"/>
          <p:cNvSpPr/>
          <p:nvPr/>
        </p:nvSpPr>
        <p:spPr>
          <a:xfrm>
            <a:off x="6393240" y="4786200"/>
            <a:ext cx="911880" cy="17146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服務決定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8" name="向下箭號 39"/>
          <p:cNvSpPr/>
          <p:nvPr/>
        </p:nvSpPr>
        <p:spPr>
          <a:xfrm>
            <a:off x="6786720" y="4357800"/>
            <a:ext cx="142560" cy="4284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92d05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9" name="文字方塊 40"/>
          <p:cNvSpPr/>
          <p:nvPr/>
        </p:nvSpPr>
        <p:spPr>
          <a:xfrm>
            <a:off x="7036200" y="2643120"/>
            <a:ext cx="911880" cy="17146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總結性評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0" name="文字方塊 41"/>
          <p:cNvSpPr/>
          <p:nvPr/>
        </p:nvSpPr>
        <p:spPr>
          <a:xfrm>
            <a:off x="7036200" y="4786200"/>
            <a:ext cx="911880" cy="17146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服務決定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1" name="向下箭號 42"/>
          <p:cNvSpPr/>
          <p:nvPr/>
        </p:nvSpPr>
        <p:spPr>
          <a:xfrm>
            <a:off x="7429680" y="4357800"/>
            <a:ext cx="142560" cy="4284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92d05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2" name="右大括弧 44"/>
          <p:cNvSpPr/>
          <p:nvPr/>
        </p:nvSpPr>
        <p:spPr>
          <a:xfrm rot="16200000">
            <a:off x="5607720" y="2035800"/>
            <a:ext cx="285840" cy="928800"/>
          </a:xfrm>
          <a:custGeom>
            <a:avLst/>
            <a:gdLst>
              <a:gd name="textAreaLeft" fmla="*/ 0 w 285840"/>
              <a:gd name="textAreaRight" fmla="*/ 103320 w 285840"/>
              <a:gd name="textAreaTop" fmla="*/ 17280 h 928800"/>
              <a:gd name="textAreaBottom" fmla="*/ 91152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7"/>
                  <a:pt x="10800" y="1294"/>
                </a:cubicBezTo>
                <a:lnTo>
                  <a:pt x="10800" y="9283"/>
                </a:lnTo>
                <a:cubicBezTo>
                  <a:pt x="10800" y="9930"/>
                  <a:pt x="16200" y="10577"/>
                  <a:pt x="21600" y="10577"/>
                </a:cubicBezTo>
                <a:cubicBezTo>
                  <a:pt x="16200" y="10577"/>
                  <a:pt x="10800" y="11224"/>
                  <a:pt x="10800" y="11871"/>
                </a:cubicBezTo>
                <a:lnTo>
                  <a:pt x="10800" y="20306"/>
                </a:lnTo>
                <a:cubicBezTo>
                  <a:pt x="10800" y="2095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e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3" name="右大括弧 45"/>
          <p:cNvSpPr/>
          <p:nvPr/>
        </p:nvSpPr>
        <p:spPr>
          <a:xfrm rot="16200000">
            <a:off x="6964920" y="2035800"/>
            <a:ext cx="285840" cy="928440"/>
          </a:xfrm>
          <a:custGeom>
            <a:avLst/>
            <a:gdLst>
              <a:gd name="textAreaLeft" fmla="*/ 0 w 285840"/>
              <a:gd name="textAreaRight" fmla="*/ 103320 w 285840"/>
              <a:gd name="textAreaTop" fmla="*/ 17280 h 928440"/>
              <a:gd name="textAreaBottom" fmla="*/ 9111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7"/>
                  <a:pt x="10800" y="1294"/>
                </a:cubicBezTo>
                <a:lnTo>
                  <a:pt x="10800" y="9283"/>
                </a:lnTo>
                <a:cubicBezTo>
                  <a:pt x="10800" y="9930"/>
                  <a:pt x="16200" y="10577"/>
                  <a:pt x="21600" y="10577"/>
                </a:cubicBezTo>
                <a:cubicBezTo>
                  <a:pt x="16200" y="10577"/>
                  <a:pt x="10800" y="11224"/>
                  <a:pt x="10800" y="11871"/>
                </a:cubicBezTo>
                <a:lnTo>
                  <a:pt x="10800" y="20306"/>
                </a:lnTo>
                <a:cubicBezTo>
                  <a:pt x="10800" y="2095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e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評估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從客觀的評值中找出重要需求及確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撰寫服務需求評估摘要表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分析優弱勢能力及現況找出待支持需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擬定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ISP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長短期目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召開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ISP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會議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確定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執行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ISP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擬定及執行短期服務策略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教案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評量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ISP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形成性評量及總結性評量→作形成性服務決定及總結性服務決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撰寫服務摘要報告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半年及期末各一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※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進行半年服務效益評量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修訂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ISP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再召開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ISP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修訂會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※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進行期末服務效益評量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重新需求評估再擬下年度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Text Box 3"/>
          <p:cNvSpPr/>
          <p:nvPr/>
        </p:nvSpPr>
        <p:spPr>
          <a:xfrm>
            <a:off x="60948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Tahoma"/>
              </a:rPr>
              <a:t>一、 </a:t>
            </a: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ISP</a:t>
            </a:r>
            <a:r>
              <a:rPr b="1" lang="zh-TW" sz="3600" spc="-1" strike="noStrike">
                <a:solidFill>
                  <a:srgbClr val="003399"/>
                </a:solidFill>
                <a:latin typeface="Tahoma"/>
              </a:rPr>
              <a:t>擬定、執行與評量流程</a:t>
            </a:r>
            <a:r>
              <a:rPr b="0" lang="zh-TW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1400" spc="-1" strike="noStrike">
                <a:solidFill>
                  <a:srgbClr val="0033cc"/>
                </a:solidFill>
                <a:latin typeface="Tahoma"/>
              </a:rPr>
              <a:t>P17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cc"/>
                </a:solidFill>
                <a:latin typeface="Tahoma"/>
              </a:rPr>
              <a:t>二、</a:t>
            </a:r>
            <a:r>
              <a:rPr b="0" lang="zh-TW" sz="3600" spc="-1" strike="noStrike">
                <a:solidFill>
                  <a:srgbClr val="0033cc"/>
                </a:solidFill>
                <a:latin typeface="Tahoma"/>
              </a:rPr>
              <a:t>進行需求評估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--</a:t>
            </a:r>
            <a:r>
              <a:rPr b="0" lang="zh-TW" sz="2000" spc="-1" strike="noStrike">
                <a:solidFill>
                  <a:srgbClr val="333399"/>
                </a:solidFill>
                <a:latin typeface="Tahoma"/>
              </a:rPr>
              <a:t>評估的基本概念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標楷體"/>
                <a:ea typeface="標楷體"/>
              </a:rPr>
              <a:t>評估的重要性</a:t>
            </a:r>
            <a:r>
              <a:rPr b="0" lang="en-US" sz="3200" spc="-1" strike="noStrike">
                <a:solidFill>
                  <a:srgbClr val="cc33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cc3300"/>
                </a:solidFill>
                <a:latin typeface="標楷體"/>
                <a:ea typeface="標楷體"/>
              </a:rPr>
              <a:t>如體檢</a:t>
            </a:r>
            <a:r>
              <a:rPr b="0" lang="en-US" sz="3200" spc="-1" strike="noStrike">
                <a:solidFill>
                  <a:srgbClr val="cc33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評估的正確態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評估的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評估技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評估時注意事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建立系統化評估的概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cc"/>
                </a:solidFill>
                <a:latin typeface="Tahoma"/>
              </a:rPr>
              <a:t>尊重服務使用者與關心的重要他人表達需求的權利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服務使用者及其重要他人（如，父母、手足、監護人、家屬等）表達需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工作人員應以尊重與開放的態度對待，切忌以「服務使用者能力不足」或「從未提供過此類服務」等理由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縱使所提需求在客觀現實評估後尚難立刻達成，但專業工作人員應就其表達應給予絕對的尊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76212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cc"/>
                </a:solidFill>
                <a:latin typeface="Tahoma"/>
              </a:rPr>
              <a:t>二、進行需求評估</a:t>
            </a: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--</a:t>
            </a:r>
            <a:r>
              <a:rPr b="1" lang="zh-TW" sz="3200" spc="-1" strike="noStrike">
                <a:solidFill>
                  <a:srgbClr val="333399"/>
                </a:solidFill>
                <a:latin typeface="Tahoma"/>
              </a:rPr>
              <a:t>評估態度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P19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c) </a:t>
            </a:r>
            <a:r>
              <a:rPr b="0" lang="zh-TW" sz="3200" spc="-1" strike="noStrike">
                <a:solidFill>
                  <a:srgbClr val="0033cc"/>
                </a:solidFill>
                <a:latin typeface="Tahoma"/>
              </a:rPr>
              <a:t>著眼於服務使用者的「需求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」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33cc"/>
                </a:solidFill>
                <a:latin typeface="標楷體"/>
                <a:ea typeface="標楷體"/>
              </a:rPr>
              <a:t>只問服務使用者「要不要」？不問他「會不會」或「能不能」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？評估需求時應聚焦於服務使用者的「需求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不論服務使用者在該項目標上的能力如何，</a:t>
            </a:r>
            <a:r>
              <a:rPr b="0" lang="zh-TW" sz="3200" spc="-1" strike="noStrike">
                <a:solidFill>
                  <a:srgbClr val="0033cc"/>
                </a:solidFill>
                <a:latin typeface="標楷體"/>
                <a:ea typeface="標楷體"/>
              </a:rPr>
              <a:t>只要服務使用者</a:t>
            </a:r>
            <a:r>
              <a:rPr b="0" lang="zh-TW" sz="3200" spc="-1" strike="noStrike">
                <a:solidFill>
                  <a:srgbClr val="cc3300"/>
                </a:solidFill>
                <a:latin typeface="標楷體"/>
                <a:ea typeface="標楷體"/>
              </a:rPr>
              <a:t>「需要」或「想要」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經過工作人員整體觀察與考量後，需將該目標列入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ISP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當中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d) </a:t>
            </a:r>
            <a:r>
              <a:rPr b="0" lang="zh-TW" sz="3200" spc="-1" strike="noStrike">
                <a:solidFill>
                  <a:srgbClr val="0033cc"/>
                </a:solidFill>
                <a:latin typeface="Tahoma"/>
              </a:rPr>
              <a:t>注意服務使用者同齡大眾的常態需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可參考服務使用者所處社會環境中大多數同齡者的生活需求水準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般而言，服務使用者的需求於評估時容易低於一般同齡的社會大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服務需求的考量亦應同時注意到社區中時下同齡者的生活需求、狀態與從事活動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50560" y="620280"/>
            <a:ext cx="7792920" cy="10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為什麼要寫</a:t>
            </a:r>
            <a:r>
              <a:rPr b="0" lang="en-US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ISP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對個案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量身打造的重點服務計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對家長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現況與未來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對老闆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工作認真的證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對政府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評鑑時的服務績效證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對捐款人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為什麼要捐給妳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捐款效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對工作人員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知道自己要做甚麼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可做到甚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程度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)</a:t>
            </a:r>
            <a:r>
              <a:rPr b="0" lang="zh-TW" sz="2800" spc="-1" strike="noStrike">
                <a:solidFill>
                  <a:srgbClr val="0033cc"/>
                </a:solidFill>
                <a:latin typeface="Tahoma"/>
              </a:rPr>
              <a:t>考量服務使用者實際能力或條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工作人員不排斥服務對象的需求，必要時適當調整目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如：工作能力、經濟條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3300"/>
                </a:solidFill>
                <a:latin typeface="Tahoma"/>
                <a:ea typeface="標楷體"/>
              </a:rPr>
              <a:t>觀察：</a:t>
            </a:r>
            <a:r>
              <a:rPr b="0" lang="zh-TW" sz="2600" spc="-1" strike="noStrike">
                <a:solidFill>
                  <a:srgbClr val="000000"/>
                </a:solidFill>
                <a:latin typeface="Tahoma"/>
                <a:ea typeface="標楷體"/>
              </a:rPr>
              <a:t>評估者直接觀察分析服務使用者及其所處生態中表現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3300"/>
                </a:solidFill>
                <a:latin typeface="Tahoma"/>
                <a:ea typeface="標楷體"/>
              </a:rPr>
              <a:t>晤談：</a:t>
            </a:r>
            <a:r>
              <a:rPr b="0" lang="zh-TW" sz="2600" spc="-1" strike="noStrike">
                <a:solidFill>
                  <a:srgbClr val="000000"/>
                </a:solidFill>
                <a:latin typeface="Tahoma"/>
                <a:ea typeface="標楷體"/>
              </a:rPr>
              <a:t>評估者晤談服務使用者本身、家長（屬）、熟悉者、專業人員等以了解服務對象的生活功能概況和服務需求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3300"/>
                </a:solidFill>
                <a:latin typeface="Tahoma"/>
                <a:ea typeface="標楷體"/>
              </a:rPr>
              <a:t>資料搜集：</a:t>
            </a:r>
            <a:r>
              <a:rPr b="0" lang="zh-TW" sz="2600" spc="-1" strike="noStrike">
                <a:solidFill>
                  <a:srgbClr val="000000"/>
                </a:solidFill>
                <a:latin typeface="Tahoma"/>
                <a:ea typeface="標楷體"/>
              </a:rPr>
              <a:t>評估者閱讀過去服務相關資料（如，發展史、醫療史、教育史、工作史、標準化評估結果、職業輔導評估報告、家訪紀錄等）以了解服務使用者的背景資料、身心功能、家長的期待等，歸納出服務使用者的需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914400" y="990720"/>
            <a:ext cx="7162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ahoma"/>
              </a:rPr>
              <a:t>評估的三種方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ahoma"/>
              </a:rPr>
              <a:t>評估技巧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建立系統化評估概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有結構的進行觀察晤談和資料搜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了解服務對象身心概況、優弱勢能力、生態與需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見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-2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表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熟悉服務綱要內容：參考綱目項下所屬的「服務目標示例」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評值的意義：了解需求強度與不同分數所代表的涵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觀察期間：至少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-2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週以上為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觀察內容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→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個體生理與心理概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→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個體優勢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弱勢能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→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個體經常所處的生態環境（與個體互動或經常發生的人、事、物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→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個體身心狀況及優弱勢能力在生態中發揮或運作的狀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Rectangle 5"/>
          <p:cNvSpPr/>
          <p:nvPr/>
        </p:nvSpPr>
        <p:spPr>
          <a:xfrm>
            <a:off x="1677960" y="838080"/>
            <a:ext cx="2923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ahoma"/>
              </a:rPr>
              <a:t>評估過程中的注意事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cc"/>
                </a:solidFill>
                <a:latin typeface="Tahoma"/>
              </a:rPr>
              <a:t>評值說明</a:t>
            </a:r>
            <a:r>
              <a:rPr b="0" lang="zh-TW" sz="4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--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(</a:t>
            </a:r>
            <a:r>
              <a:rPr b="0" lang="zh-TW" sz="2400" spc="-1" strike="noStrike">
                <a:solidFill>
                  <a:srgbClr val="0033cc"/>
                </a:solidFill>
                <a:latin typeface="Tahoma"/>
              </a:rPr>
              <a:t>灰底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2648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Tahoma"/>
              </a:rPr>
              <a:t>評估者綜觀服務使用者、重要他人、專業人員、評估者等各方意見及資料，就各項需求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---</a:t>
            </a:r>
            <a:r>
              <a:rPr b="0" lang="zh-TW" sz="2100" spc="-1" strike="noStrike">
                <a:solidFill>
                  <a:srgbClr val="cc3300"/>
                </a:solidFill>
                <a:latin typeface="Tahoma"/>
              </a:rPr>
              <a:t>進行強度評估</a:t>
            </a:r>
            <a:r>
              <a:rPr b="0" lang="zh-TW" sz="21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Rectangle 14"/>
          <p:cNvSpPr/>
          <p:nvPr/>
        </p:nvSpPr>
        <p:spPr>
          <a:xfrm>
            <a:off x="3100320" y="2604960"/>
            <a:ext cx="5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2" name="Text Box 4"/>
          <p:cNvSpPr/>
          <p:nvPr/>
        </p:nvSpPr>
        <p:spPr>
          <a:xfrm>
            <a:off x="5043600" y="3695760"/>
            <a:ext cx="10000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523880" y="2666880"/>
          <a:ext cx="5639040" cy="3048120"/>
        </p:xfrm>
        <a:graphic>
          <a:graphicData uri="http://schemas.openxmlformats.org/drawingml/2006/table">
            <a:tbl>
              <a:tblPr/>
              <a:tblGrid>
                <a:gridCol w="3934080"/>
                <a:gridCol w="1704960"/>
              </a:tblGrid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需求強度標準</a:t>
                      </a:r>
                      <a:endParaRPr b="0" lang="en-US" sz="2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評值</a:t>
                      </a:r>
                      <a:endParaRPr b="0" lang="en-US" sz="2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非常需要</a:t>
                      </a:r>
                      <a:endParaRPr b="0" lang="en-US" sz="2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些需要</a:t>
                      </a:r>
                      <a:endParaRPr b="0" lang="en-US" sz="2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普通需要</a:t>
                      </a:r>
                      <a:endParaRPr b="0" lang="en-US" sz="2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點需要</a:t>
                      </a:r>
                      <a:endParaRPr b="0" lang="en-US" sz="2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需要</a:t>
                      </a:r>
                      <a:endParaRPr b="0" lang="en-US" sz="2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zh-TW" sz="3200" spc="-1" strike="noStrike">
                <a:solidFill>
                  <a:srgbClr val="0033cc"/>
                </a:solidFill>
                <a:latin typeface="Tahoma"/>
              </a:rPr>
              <a:t>需求選擇的原則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】</a:t>
            </a:r>
            <a:r>
              <a:rPr b="0" lang="zh-TW" sz="1500" spc="-1" strike="noStrike">
                <a:solidFill>
                  <a:srgbClr val="0033cc"/>
                </a:solidFill>
                <a:latin typeface="Tahoma"/>
              </a:rPr>
              <a:t>考量下列因素選擇當年欲支持的重點需求：</a:t>
            </a:r>
            <a:endParaRPr b="0" lang="en-US" sz="1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悠關生命、安全或健康的需求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服務對象及重要他人的主觀需求表示，且該強烈主觀需求尚無其他需求須先行滿足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影響服務對象權利義務的需求者，需優先選擇。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影響生涯後續發展的需求優先選擇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階段性重要的需求應優先給予支持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對於服務使用者不同的生涯階段具有重大意義的需求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影響服務使用者基本的生活品質之需求。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服務提供者考量自身的服務能力、資源與能量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增加生活樂趣豐富生命經驗的需求。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花費資源不多即可滿足者。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33cc"/>
                </a:solidFill>
                <a:latin typeface="Verdana"/>
              </a:rPr>
              <a:t>伍、撰寫年度長短期服務目標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—</a:t>
            </a: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67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</a:rPr>
              <a:t>確定「年度待支持服務需求」後，如何將需求轉換成為「年度的長期和短期服務目標」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表十一範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Rectangle 16"/>
          <p:cNvSpPr/>
          <p:nvPr/>
        </p:nvSpPr>
        <p:spPr>
          <a:xfrm>
            <a:off x="2427120" y="1420920"/>
            <a:ext cx="3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9" name="Rectangle 24"/>
          <p:cNvSpPr/>
          <p:nvPr/>
        </p:nvSpPr>
        <p:spPr>
          <a:xfrm>
            <a:off x="2427120" y="1420920"/>
            <a:ext cx="97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914400" y="2819520"/>
          <a:ext cx="7467480" cy="2827080"/>
        </p:xfrm>
        <a:graphic>
          <a:graphicData uri="http://schemas.openxmlformats.org/drawingml/2006/table">
            <a:tbl>
              <a:tblPr/>
              <a:tblGrid>
                <a:gridCol w="468360"/>
                <a:gridCol w="1969920"/>
                <a:gridCol w="1549440"/>
                <a:gridCol w="347976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度待支持需求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長期目標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短期目標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907920" indent="-436320">
                        <a:lnSpc>
                          <a:spcPct val="100000"/>
                        </a:lnSpc>
                        <a:tabLst>
                          <a:tab algn="l" pos="0"/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907920" indent="-4363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 2" charset="2"/>
                        <a:buChar char="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907920" indent="-4363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 2" charset="2"/>
                        <a:buChar char="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1" name="Text Box 253"/>
          <p:cNvSpPr/>
          <p:nvPr/>
        </p:nvSpPr>
        <p:spPr>
          <a:xfrm>
            <a:off x="13716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Verdana"/>
              </a:rPr>
              <a:t>需要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改善躁鬱症病情</a:t>
            </a:r>
            <a:r>
              <a:rPr b="0" lang="zh-TW" sz="1800" spc="-1" strike="noStrike">
                <a:solidFill>
                  <a:srgbClr val="cc3300"/>
                </a:solidFill>
                <a:latin typeface="Verdana"/>
              </a:rPr>
              <a:t>的支持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2" name="Text Box 254"/>
          <p:cNvSpPr/>
          <p:nvPr/>
        </p:nvSpPr>
        <p:spPr>
          <a:xfrm>
            <a:off x="335268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改善躁鬱症病情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3" name="Text Box 255"/>
          <p:cNvSpPr/>
          <p:nvPr/>
        </p:nvSpPr>
        <p:spPr>
          <a:xfrm>
            <a:off x="4952880" y="37339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依照醫囑協助穩定服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每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進行情緒行為觀察與紀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每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陪同精神科就醫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每月至少一次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4" name="Text Box 259"/>
          <p:cNvSpPr/>
          <p:nvPr/>
        </p:nvSpPr>
        <p:spPr>
          <a:xfrm>
            <a:off x="990720" y="40384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第一年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是本年度支持服務重點與方向，陳述較廣泛、籠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每個領域長期目標數量建議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個以內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長期目標撰寫方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從待支持需求中找出較為急迫或較可能滿足的需求項目，</a:t>
            </a:r>
            <a:r>
              <a:rPr b="0" lang="zh-TW" sz="3000" spc="-1" strike="noStrike">
                <a:solidFill>
                  <a:srgbClr val="cc3300"/>
                </a:solidFill>
                <a:latin typeface="標楷體"/>
                <a:ea typeface="標楷體"/>
              </a:rPr>
              <a:t>參照副領域、綱目的文字，前面加上合適的</a:t>
            </a:r>
            <a:r>
              <a:rPr b="0" lang="zh-TW" sz="3000" spc="-1" strike="noStrike">
                <a:solidFill>
                  <a:srgbClr val="cc3300"/>
                </a:solidFill>
                <a:latin typeface="Verdana"/>
              </a:rPr>
              <a:t>「</a:t>
            </a:r>
            <a:r>
              <a:rPr b="0" lang="zh-TW" sz="3000" spc="-1" strike="noStrike">
                <a:solidFill>
                  <a:srgbClr val="cc3300"/>
                </a:solidFill>
                <a:latin typeface="標楷體"/>
                <a:ea typeface="標楷體"/>
              </a:rPr>
              <a:t>動詞</a:t>
            </a:r>
            <a:r>
              <a:rPr b="0" lang="zh-TW" sz="3000" spc="-1" strike="noStrike">
                <a:solidFill>
                  <a:srgbClr val="cc3300"/>
                </a:solidFill>
                <a:latin typeface="Verdana"/>
              </a:rPr>
              <a:t>」</a:t>
            </a:r>
            <a:r>
              <a:rPr b="0" lang="zh-TW" sz="3000" spc="-1" strike="noStrike">
                <a:solidFill>
                  <a:srgbClr val="cc3300"/>
                </a:solidFill>
                <a:latin typeface="標楷體"/>
                <a:ea typeface="標楷體"/>
              </a:rPr>
              <a:t>語彙成為短句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P48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┼</a:t>
            </a:r>
            <a:r>
              <a:rPr b="0" lang="zh-TW" sz="2400" spc="-1" strike="noStrike">
                <a:solidFill>
                  <a:srgbClr val="cc3300"/>
                </a:solidFill>
                <a:latin typeface="Verdana"/>
              </a:rPr>
              <a:t>動詞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┼綱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或服務示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┼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能力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狀況相符的詞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長期目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參照副領域、綱目的文字，前面加上合適的</a:t>
            </a: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「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動詞</a:t>
            </a: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」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語彙成為短句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566640" y="1752480"/>
          <a:ext cx="8001000" cy="4267440"/>
        </p:xfrm>
        <a:graphic>
          <a:graphicData uri="http://schemas.openxmlformats.org/drawingml/2006/table">
            <a:tbl>
              <a:tblPr/>
              <a:tblGrid>
                <a:gridCol w="530280"/>
                <a:gridCol w="1224000"/>
                <a:gridCol w="4057560"/>
                <a:gridCol w="365400"/>
                <a:gridCol w="366480"/>
                <a:gridCol w="362160"/>
                <a:gridCol w="365040"/>
                <a:gridCol w="365040"/>
                <a:gridCol w="365040"/>
              </a:tblGrid>
              <a:tr h="44460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副領域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E1</a:t>
                      </a:r>
                      <a:r>
                        <a:rPr b="0" lang="zh-TW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：一般社區行為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鋼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目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代碼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服務需求與服務目標示例</a:t>
                      </a:r>
                      <a:endParaRPr b="0" lang="en-US" sz="1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評 量 日 期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行書體"/>
                        </a:rPr>
                        <a:t>99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行書體"/>
                        </a:rPr>
                        <a:t>/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行書體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1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需要一般社區行為的支持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5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1-1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cc"/>
                          </a:solidFill>
                          <a:latin typeface="標楷體"/>
                          <a:ea typeface="標楷體"/>
                        </a:rPr>
                        <a:t>區辨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標楷體"/>
                          <a:ea typeface="標楷體"/>
                        </a:rPr>
                        <a:t>/</a:t>
                      </a:r>
                      <a:r>
                        <a:rPr b="0" lang="zh-TW" sz="1400" spc="-1" strike="noStrike">
                          <a:solidFill>
                            <a:srgbClr val="0033cc"/>
                          </a:solidFill>
                          <a:latin typeface="標楷體"/>
                          <a:ea typeface="標楷體"/>
                        </a:rPr>
                        <a:t>依循社區標誌以使用場所中的公共設施 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33cc"/>
                          </a:solidFill>
                          <a:latin typeface="標楷體"/>
                          <a:ea typeface="標楷體"/>
                        </a:rPr>
                        <a:t>如：男女廁所、電梯、扶梯、公共電話、服務台、收銀台、箭頭指標等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行書體"/>
                        </a:rPr>
                        <a:t>a2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1-2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cc"/>
                          </a:solidFill>
                          <a:latin typeface="標楷體"/>
                          <a:ea typeface="標楷體"/>
                        </a:rPr>
                        <a:t>往返鄰近的地方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33cc"/>
                          </a:solidFill>
                          <a:latin typeface="標楷體"/>
                          <a:ea typeface="標楷體"/>
                        </a:rPr>
                        <a:t>如：超商、早餐店、公車站等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9" name="Text Box 60"/>
          <p:cNvSpPr/>
          <p:nvPr/>
        </p:nvSpPr>
        <p:spPr>
          <a:xfrm>
            <a:off x="657000" y="3809880"/>
            <a:ext cx="31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Verdana"/>
              </a:rPr>
              <a:t>基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Verdana"/>
              </a:rPr>
              <a:t>礎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Verdana"/>
              </a:rPr>
              <a:t>社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Verdana"/>
              </a:rPr>
              <a:t>區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Verdana"/>
              </a:rPr>
              <a:t>能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Verdana"/>
              </a:rPr>
              <a:t>力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Verdana"/>
              </a:rPr>
              <a:t>【</a:t>
            </a:r>
            <a:r>
              <a:rPr b="0" lang="zh-TW" sz="3800" spc="-1" strike="noStrike">
                <a:solidFill>
                  <a:srgbClr val="0033cc"/>
                </a:solidFill>
                <a:latin typeface="Verdana"/>
              </a:rPr>
              <a:t>撰寫長期服務目標</a:t>
            </a:r>
            <a:r>
              <a:rPr b="0" lang="en-US" sz="3800" spc="-1" strike="noStrike">
                <a:solidFill>
                  <a:srgbClr val="0033cc"/>
                </a:solidFill>
                <a:latin typeface="Verdana"/>
              </a:rPr>
              <a:t>】</a:t>
            </a:r>
            <a:r>
              <a:rPr b="0" lang="zh-TW" sz="3800" spc="-1" strike="noStrike">
                <a:solidFill>
                  <a:srgbClr val="0033cc"/>
                </a:solidFill>
                <a:latin typeface="Verdana"/>
              </a:rPr>
              <a:t>的技巧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圈選適合使用的動詞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參考表十四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Verdana"/>
              </a:rPr>
              <a:t>培養、建立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刷牙能力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進食後刷牙的習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Verdana"/>
              </a:rPr>
              <a:t>提升、強化、加強、改善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刷牙品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口腔衛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Verdana"/>
              </a:rPr>
              <a:t>維持、增加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原有的階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擴充內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Verdana"/>
              </a:rPr>
              <a:t>減輕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負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Verdana"/>
              </a:rPr>
              <a:t>延緩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惡化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現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Text Box 4"/>
          <p:cNvSpPr/>
          <p:nvPr/>
        </p:nvSpPr>
        <p:spPr>
          <a:xfrm>
            <a:off x="1302480" y="57466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舉例練習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白板演練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350720" y="549360"/>
            <a:ext cx="779292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標楷體"/>
                <a:ea typeface="標楷體"/>
              </a:rPr>
              <a:t>ISP</a:t>
            </a:r>
            <a:r>
              <a:rPr b="0" lang="zh-TW" sz="4400" spc="-1" strike="noStrike">
                <a:solidFill>
                  <a:srgbClr val="003399"/>
                </a:solidFill>
                <a:latin typeface="標楷體"/>
                <a:ea typeface="標楷體"/>
              </a:rPr>
              <a:t>的由來：</a:t>
            </a:r>
            <a:r>
              <a:rPr b="0" lang="zh-TW" sz="4000" spc="-1" strike="noStrike">
                <a:solidFill>
                  <a:srgbClr val="003399"/>
                </a:solidFill>
                <a:latin typeface="標楷體"/>
                <a:ea typeface="標楷體"/>
              </a:rPr>
              <a:t>服務思潮的演變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99"/>
                </a:solidFill>
                <a:latin typeface="Tahoma"/>
              </a:rPr>
              <a:t>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P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說起－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美國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960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年代，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「去機構化」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「回歸主流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家長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vs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老師</a:t>
            </a:r>
            <a:r>
              <a:rPr b="0" lang="zh-TW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政府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vs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老師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IEP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以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評估優弱勢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擬定教育訓練目標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為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IEP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對成年智障者的困境－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強調能力，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人在成長上有一定的限制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「社區化安置」、「融合教育」概念興起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IFSP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「個別化家庭服務計畫」－－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ITP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「個別化轉銜計畫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「</a:t>
            </a:r>
            <a:r>
              <a:rPr b="1" lang="zh-TW" sz="2000" spc="-1" strike="noStrike">
                <a:solidFill>
                  <a:srgbClr val="000000"/>
                </a:solidFill>
                <a:latin typeface="Tahoma"/>
              </a:rPr>
              <a:t>支持服務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」和「</a:t>
            </a:r>
            <a:r>
              <a:rPr b="1" lang="zh-TW" sz="2000" spc="-1" strike="noStrike">
                <a:solidFill>
                  <a:srgbClr val="000000"/>
                </a:solidFill>
                <a:latin typeface="Tahoma"/>
              </a:rPr>
              <a:t>療育或訓練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」並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美國智能和發展障礙者協會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AAIDD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，研發出版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發展支持強度量表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SIS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評估和設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P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個別化支持計劃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Verdana"/>
              </a:rPr>
              <a:t>【</a:t>
            </a:r>
            <a:r>
              <a:rPr b="0" lang="zh-TW" sz="3800" spc="-1" strike="noStrike">
                <a:solidFill>
                  <a:srgbClr val="0033cc"/>
                </a:solidFill>
                <a:latin typeface="Verdana"/>
              </a:rPr>
              <a:t>撰寫短期服務目標</a:t>
            </a:r>
            <a:r>
              <a:rPr b="0" lang="en-US" sz="3800" spc="-1" strike="noStrike">
                <a:solidFill>
                  <a:srgbClr val="0033cc"/>
                </a:solidFill>
                <a:latin typeface="Verdana"/>
              </a:rPr>
              <a:t>】</a:t>
            </a:r>
            <a:r>
              <a:rPr b="0" lang="zh-TW" sz="3800" spc="-1" strike="noStrike">
                <a:solidFill>
                  <a:srgbClr val="0033cc"/>
                </a:solidFill>
                <a:latin typeface="Verdana"/>
              </a:rPr>
              <a:t>的技巧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定義</a:t>
            </a:r>
            <a:r>
              <a:rPr b="1" lang="en-US" sz="2800" spc="-1" strike="noStrike">
                <a:solidFill>
                  <a:srgbClr val="000000"/>
                </a:solidFill>
                <a:latin typeface="新細明體"/>
              </a:rPr>
              <a:t>--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具體可執行的行為目標或策略目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目標選擇</a:t>
            </a:r>
            <a:r>
              <a:rPr b="1" lang="en-US" sz="2800" spc="-1" strike="noStrike">
                <a:solidFill>
                  <a:srgbClr val="000000"/>
                </a:solidFill>
                <a:latin typeface="新細明體"/>
              </a:rPr>
              <a:t>--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需有功能性，符合個案需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            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目標為個案之重要技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            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與個案之環境生態結合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周全的服務目標</a:t>
            </a:r>
            <a:r>
              <a:rPr b="1" lang="en-US" sz="2800" spc="-1" strike="noStrike">
                <a:solidFill>
                  <a:srgbClr val="000000"/>
                </a:solidFill>
                <a:latin typeface="新細明體"/>
              </a:rPr>
              <a:t>--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產出執行長期目標的方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有些機構此流程省略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Verdana"/>
              </a:rPr>
              <a:t>短期目標撰寫方式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-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┼</a:t>
            </a:r>
            <a:r>
              <a:rPr b="1" lang="zh-TW" sz="3000" spc="-1" strike="noStrike">
                <a:solidFill>
                  <a:srgbClr val="000000"/>
                </a:solidFill>
                <a:latin typeface="Verdana"/>
              </a:rPr>
              <a:t>動詞┼能力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TW" sz="3000" spc="-1" strike="noStrike">
                <a:solidFill>
                  <a:srgbClr val="000000"/>
                </a:solidFill>
                <a:latin typeface="Verdana"/>
              </a:rPr>
              <a:t>狀況┼目標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以服務對象為主詞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一個以上的短期目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最多不超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參考服務目標示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TW" sz="3000" spc="-1" strike="noStrike">
                <a:solidFill>
                  <a:srgbClr val="cc3300"/>
                </a:solidFill>
                <a:latin typeface="Verdana"/>
              </a:rPr>
              <a:t>抄寫、改寫、重寫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撰寫執行的</a:t>
            </a:r>
            <a:r>
              <a:rPr b="0" lang="zh-TW" sz="3000" spc="-1" strike="noStrike">
                <a:solidFill>
                  <a:srgbClr val="cc3300"/>
                </a:solidFill>
                <a:latin typeface="Verdana"/>
              </a:rPr>
              <a:t>目標值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獲得刷牙服務每日至少三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可具體的執行目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可加入的</a:t>
            </a:r>
            <a:r>
              <a:rPr b="0" lang="zh-TW" sz="3000" spc="-1" strike="noStrike">
                <a:solidFill>
                  <a:srgbClr val="cc3300"/>
                </a:solidFill>
                <a:latin typeface="Verdana"/>
              </a:rPr>
              <a:t>動詞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使用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會、能、獲得、參與、提升、擴充等全部</a:t>
            </a: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(P48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範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685800" y="1752480"/>
          <a:ext cx="7881840" cy="4249800"/>
        </p:xfrm>
        <a:graphic>
          <a:graphicData uri="http://schemas.openxmlformats.org/drawingml/2006/table">
            <a:tbl>
              <a:tblPr/>
              <a:tblGrid>
                <a:gridCol w="1905120"/>
                <a:gridCol w="1828800"/>
                <a:gridCol w="41479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待支持需求</a:t>
                      </a:r>
                      <a:endParaRPr b="0" lang="en-US" sz="26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長期目標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26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短期目標</a:t>
                      </a:r>
                      <a:endParaRPr b="0" lang="en-US" sz="26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需要改善口腔衛生的支持</a:t>
                      </a:r>
                      <a:endParaRPr b="0" lang="en-US" sz="26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改善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口腔的衛生</a:t>
                      </a:r>
                      <a:endParaRPr b="0" lang="en-US" sz="26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會刷牙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個步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飯後會主動刷牙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每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獲得每日飯後潔牙服務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參與每年定期洗牙服務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陪同就醫治療蛀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齟齒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)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期初服務目標起點評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0" name=""/>
          <p:cNvGraphicFramePr/>
          <p:nvPr/>
        </p:nvGraphicFramePr>
        <p:xfrm>
          <a:off x="380880" y="2743200"/>
          <a:ext cx="8272440" cy="3276720"/>
        </p:xfrm>
        <a:graphic>
          <a:graphicData uri="http://schemas.openxmlformats.org/drawingml/2006/table">
            <a:tbl>
              <a:tblPr/>
              <a:tblGrid>
                <a:gridCol w="500040"/>
                <a:gridCol w="533520"/>
                <a:gridCol w="2666880"/>
                <a:gridCol w="685800"/>
                <a:gridCol w="490680"/>
                <a:gridCol w="500040"/>
                <a:gridCol w="457200"/>
                <a:gridCol w="533520"/>
                <a:gridCol w="457200"/>
                <a:gridCol w="457200"/>
                <a:gridCol w="533160"/>
                <a:gridCol w="457200"/>
              </a:tblGrid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領域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代碼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長 期  ／  短 期 目標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服務</a:t>
                      </a:r>
                      <a:endParaRPr b="0" lang="en-US" sz="10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期限</a:t>
                      </a:r>
                      <a:endParaRPr b="0" lang="en-US" sz="10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服務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情境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評分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標準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期初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服務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評值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預期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服務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評值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年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服務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評值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度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服務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評值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服務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決定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說 明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休閒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活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◎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維持例行休閒活動機會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＊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陪同散步</a:t>
                      </a: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每週至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，每次持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鐘以上）</a:t>
                      </a:r>
                      <a:endParaRPr b="0" lang="en-US" sz="10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2/101.1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c4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4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＊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參與社區適應休閒活動（每周一次）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2/101.1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d4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4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＊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參與一日遊休閒活動（每月一次）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2/101.1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d3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3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8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333399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1" name="Rectangle 371"/>
          <p:cNvSpPr/>
          <p:nvPr/>
        </p:nvSpPr>
        <p:spPr>
          <a:xfrm>
            <a:off x="380880" y="182844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成人組長期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短期目標與評量紀錄表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姓名：</a:t>
            </a:r>
            <a:r>
              <a:rPr b="0" lang="zh-TW" sz="1800" spc="-1" strike="noStrike" u="sng">
                <a:solidFill>
                  <a:srgbClr val="000000"/>
                </a:solidFill>
                <a:uFillTx/>
                <a:latin typeface="Verdana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P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年度：</a:t>
            </a:r>
            <a:r>
              <a:rPr b="0" lang="zh-TW" sz="1800" spc="-1" strike="noStrike" u="sng">
                <a:solidFill>
                  <a:srgbClr val="000000"/>
                </a:solidFill>
                <a:uFillTx/>
                <a:latin typeface="Verdana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100</a:t>
            </a:r>
            <a:r>
              <a:rPr b="0" lang="zh-TW" sz="1800" spc="-1" strike="noStrike" u="sng">
                <a:solidFill>
                  <a:srgbClr val="000000"/>
                </a:solidFill>
                <a:uFillTx/>
                <a:latin typeface="Verdana"/>
              </a:rPr>
              <a:t>年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33cc"/>
                </a:solidFill>
                <a:latin typeface="Verdana"/>
              </a:rPr>
              <a:t>陸、執行年度</a:t>
            </a:r>
            <a:r>
              <a:rPr b="0" lang="en-US" sz="3800" spc="-1" strike="noStrike">
                <a:solidFill>
                  <a:srgbClr val="0033cc"/>
                </a:solidFill>
                <a:latin typeface="Verdana"/>
              </a:rPr>
              <a:t>ISP</a:t>
            </a:r>
            <a:r>
              <a:rPr b="0" lang="zh-TW" sz="3800" spc="-1" strike="noStrike">
                <a:solidFill>
                  <a:srgbClr val="0033cc"/>
                </a:solidFill>
                <a:latin typeface="Verdana"/>
              </a:rPr>
              <a:t>的紀錄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撰寫短期服務策略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教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工作分析教學紀錄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-</a:t>
            </a: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技能訓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短期目標評量紀錄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-</a:t>
            </a: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列表式教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團體活動計畫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各式休閒活動、社區活動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例行服務紀錄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如健康維護項目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其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如廁記錄、行為紀錄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--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什麼目標對什麼服務紀錄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---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範例教案介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33cc"/>
                </a:solidFill>
                <a:latin typeface="Verdana"/>
              </a:rPr>
              <a:t>柒、撰寫半年服務摘要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撰寫服務概況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功能表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服務「量」的陳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服務「質」的陳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內容可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頻率：每日一次、每周三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次數：參與一日遊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質：喜好、參與表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成效：能獨立完成、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0%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量：包括吃、喝、玩、休息等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3300"/>
                </a:solidFill>
                <a:latin typeface="Verdana"/>
              </a:rPr>
              <a:t>範例介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8" name="Picture 4" descr="史奴比-0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9" name="Rectangle 6"/>
          <p:cNvSpPr/>
          <p:nvPr/>
        </p:nvSpPr>
        <p:spPr>
          <a:xfrm>
            <a:off x="5508720" y="620640"/>
            <a:ext cx="32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cc"/>
                </a:solidFill>
                <a:latin typeface="Verdana"/>
                <a:ea typeface="標楷體"/>
              </a:rPr>
              <a:t>謝謝聆聽！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ISP</a:t>
            </a:r>
            <a:r>
              <a:rPr b="0" lang="zh-TW" sz="4400" spc="-1" strike="noStrike">
                <a:solidFill>
                  <a:srgbClr val="003399"/>
                </a:solidFill>
                <a:latin typeface="Tahoma"/>
              </a:rPr>
              <a:t>的重要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71640" y="2491920"/>
            <a:ext cx="7488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標楷體"/>
                <a:ea typeface="標楷體"/>
              </a:rPr>
              <a:t>IEP</a:t>
            </a:r>
            <a:r>
              <a:rPr b="0" lang="zh-TW" sz="3600" spc="-1" strike="noStrike">
                <a:solidFill>
                  <a:srgbClr val="0033cc"/>
                </a:solidFill>
                <a:latin typeface="標楷體"/>
                <a:ea typeface="標楷體"/>
              </a:rPr>
              <a:t>具有法律的效力</a:t>
            </a:r>
            <a:r>
              <a:rPr b="0" lang="zh-TW" sz="3200" spc="-1" strike="noStrike">
                <a:solidFill>
                  <a:srgbClr val="0033cc"/>
                </a:solidFill>
                <a:latin typeface="Tahoma"/>
              </a:rPr>
              <a:t>：</a:t>
            </a:r>
            <a:r>
              <a:rPr b="0" lang="zh-TW" sz="900" spc="-1" strike="noStrike">
                <a:solidFill>
                  <a:srgbClr val="0033cc"/>
                </a:solidFill>
                <a:latin typeface="Tahoma"/>
              </a:rPr>
              <a:t>特教法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cc"/>
                </a:solidFill>
                <a:latin typeface="Tahoma"/>
                <a:ea typeface="標楷體"/>
              </a:rPr>
              <a:t>有如契約般的效力</a:t>
            </a:r>
            <a:r>
              <a:rPr b="0" lang="zh-TW" sz="3200" spc="-1" strike="noStrike">
                <a:solidFill>
                  <a:srgbClr val="0033cc"/>
                </a:solidFill>
                <a:latin typeface="Tahoma"/>
              </a:rPr>
              <a:t>：</a:t>
            </a:r>
            <a:r>
              <a:rPr b="0" lang="zh-TW" sz="800" spc="-1" strike="noStrike">
                <a:solidFill>
                  <a:srgbClr val="0033cc"/>
                </a:solidFill>
                <a:latin typeface="Tahoma"/>
              </a:rPr>
              <a:t>如地契我們和家屬無誤對象簽下的約定要做到什麼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cc"/>
                </a:solidFill>
                <a:latin typeface="Tahoma"/>
                <a:ea typeface="標楷體"/>
              </a:rPr>
              <a:t>生財工具</a:t>
            </a:r>
            <a:r>
              <a:rPr b="0" lang="zh-TW" sz="3200" spc="-1" strike="noStrike">
                <a:solidFill>
                  <a:srgbClr val="0033cc"/>
                </a:solidFill>
                <a:latin typeface="Tahoma"/>
              </a:rPr>
              <a:t>：</a:t>
            </a:r>
            <a:r>
              <a:rPr b="0" lang="zh-TW" sz="800" spc="-1" strike="noStrike">
                <a:solidFill>
                  <a:srgbClr val="0033cc"/>
                </a:solidFill>
                <a:latin typeface="Tahoma"/>
              </a:rPr>
              <a:t>美國認</a:t>
            </a:r>
            <a:r>
              <a:rPr b="0" lang="en-US" sz="800" spc="-1" strike="noStrike">
                <a:solidFill>
                  <a:srgbClr val="0033cc"/>
                </a:solidFill>
                <a:latin typeface="Tahoma"/>
              </a:rPr>
              <a:t>IEP</a:t>
            </a:r>
            <a:r>
              <a:rPr b="0" lang="zh-TW" sz="800" spc="-1" strike="noStrike">
                <a:solidFill>
                  <a:srgbClr val="0033cc"/>
                </a:solidFill>
                <a:latin typeface="Tahoma"/>
              </a:rPr>
              <a:t>給錢，影響評鑑分數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服務思潮的改變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-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重要的觀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服務核心價值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：由「教育或訓練」轉變為「支持或服務」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服務方向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：由「培養提升服務對象能力」轉變為「支持服務使用者滿足良好生活品質的需求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服務對象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：由「個案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client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」轉變為「服務使用者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service user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」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服務者角色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：由「訓練者」轉變為「支持服務者」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綱要評估重點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：由「評估個案的優弱勢能力」轉變為「評估服務使用者的能力、生態與需求」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服務觀念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：從「機構為本位」轉為「以服務對象為本位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壹、服務綱要設計理念與內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82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所謂「支持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1" lang="zh-TW" sz="3200" spc="-1" strike="noStrike">
                <a:solidFill>
                  <a:srgbClr val="0033cc"/>
                </a:solidFill>
                <a:latin typeface="標楷體"/>
                <a:ea typeface="標楷體"/>
              </a:rPr>
              <a:t>就是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「</a:t>
            </a:r>
            <a:r>
              <a:rPr b="1" lang="zh-TW" sz="3200" spc="-1" strike="noStrike">
                <a:solidFill>
                  <a:srgbClr val="0033cc"/>
                </a:solidFill>
                <a:latin typeface="標楷體"/>
                <a:ea typeface="標楷體"/>
              </a:rPr>
              <a:t>幫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－－</a:t>
            </a:r>
            <a:r>
              <a:rPr b="0" lang="zh-TW" sz="3200" spc="-1" strike="noStrike">
                <a:solidFill>
                  <a:srgbClr val="0033cc"/>
                </a:solidFill>
                <a:latin typeface="標楷體"/>
                <a:ea typeface="標楷體"/>
              </a:rPr>
              <a:t>幫忙要幫到重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33cc"/>
                </a:solidFill>
                <a:latin typeface="標楷體"/>
                <a:ea typeface="標楷體"/>
              </a:rPr>
              <a:t>－－有效，達成目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標楷體"/>
                <a:ea typeface="標楷體"/>
              </a:rPr>
              <a:t>ISP</a:t>
            </a:r>
            <a:r>
              <a:rPr b="0" lang="zh-TW" sz="3200" spc="-1" strike="noStrike">
                <a:solidFill>
                  <a:srgbClr val="0033cc"/>
                </a:solidFill>
                <a:latin typeface="標楷體"/>
                <a:ea typeface="標楷體"/>
              </a:rPr>
              <a:t>不是為做而做，目標需實用且強調功能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42640" y="476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細明體"/>
                <a:ea typeface="細明體"/>
              </a:rPr>
              <a:t>(</a:t>
            </a:r>
            <a:r>
              <a:rPr b="0" lang="zh-TW" sz="4400" spc="-1" strike="noStrike">
                <a:solidFill>
                  <a:srgbClr val="333399"/>
                </a:solidFill>
                <a:latin typeface="細明體"/>
                <a:ea typeface="細明體"/>
              </a:rPr>
              <a:t>一</a:t>
            </a:r>
            <a:r>
              <a:rPr b="0" lang="en-US" sz="4400" spc="-1" strike="noStrike">
                <a:solidFill>
                  <a:srgbClr val="333399"/>
                </a:solidFill>
                <a:latin typeface="細明體"/>
                <a:ea typeface="細明體"/>
              </a:rPr>
              <a:t>)</a:t>
            </a:r>
            <a:r>
              <a:rPr b="0" lang="zh-TW" sz="4400" spc="-1" strike="noStrike">
                <a:solidFill>
                  <a:srgbClr val="333399"/>
                </a:solidFill>
                <a:latin typeface="細明體"/>
                <a:ea typeface="細明體"/>
              </a:rPr>
              <a:t>支持的功能與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減輕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-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服務使用者的負擔。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維持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-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服務使用者的現有能力或狀況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關係。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延緩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-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服務使用者功能退化、惡化等負向情況的發生。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強化、提升或改善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-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服務使用者現有的能力或狀況。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培養或建立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-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服務使用者的能力或習慣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關係。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支持服務的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2" name="文字方塊 4"/>
          <p:cNvSpPr/>
          <p:nvPr/>
        </p:nvSpPr>
        <p:spPr>
          <a:xfrm>
            <a:off x="428760" y="164304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alibri"/>
              </a:rPr>
              <a:t>減輕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3" name="直線接點 6"/>
          <p:cNvSpPr/>
          <p:nvPr/>
        </p:nvSpPr>
        <p:spPr>
          <a:xfrm>
            <a:off x="500040" y="3357720"/>
            <a:ext cx="1000080" cy="144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4" name="直線接點 7"/>
          <p:cNvSpPr/>
          <p:nvPr/>
        </p:nvSpPr>
        <p:spPr>
          <a:xfrm>
            <a:off x="3143160" y="2357280"/>
            <a:ext cx="1000080" cy="1800"/>
          </a:xfrm>
          <a:prstGeom prst="line">
            <a:avLst/>
          </a:prstGeom>
          <a:ln w="76320">
            <a:solidFill>
              <a:srgbClr val="e7bb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cxnSp>
        <p:nvCxnSpPr>
          <p:cNvPr id="815" name="直線單箭頭接點 9"/>
          <p:cNvCxnSpPr/>
          <p:nvPr/>
        </p:nvCxnSpPr>
        <p:spPr>
          <a:xfrm flipV="1">
            <a:off x="1571400" y="2356560"/>
            <a:ext cx="1572120" cy="100116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tailEnd len="med" type="arrow" w="med"/>
          </a:ln>
        </p:spPr>
      </p:cxnSp>
      <p:grpSp>
        <p:nvGrpSpPr>
          <p:cNvPr id="816" name="群組 31"/>
          <p:cNvGrpSpPr/>
          <p:nvPr/>
        </p:nvGrpSpPr>
        <p:grpSpPr>
          <a:xfrm>
            <a:off x="1978560" y="2781000"/>
            <a:ext cx="929520" cy="1357560"/>
            <a:chOff x="1978560" y="2781000"/>
            <a:chExt cx="929520" cy="1357560"/>
          </a:xfrm>
        </p:grpSpPr>
        <p:cxnSp>
          <p:nvCxnSpPr>
            <p:cNvPr id="817" name="直線單箭頭接點 13"/>
            <p:cNvCxnSpPr/>
            <p:nvPr/>
          </p:nvCxnSpPr>
          <p:spPr>
            <a:xfrm flipV="1">
              <a:off x="1978560" y="3354120"/>
              <a:ext cx="1080" cy="78480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triangle" w="med"/>
            </a:ln>
          </p:spPr>
        </p:cxnSp>
        <p:cxnSp>
          <p:nvCxnSpPr>
            <p:cNvPr id="818" name="直線單箭頭接點 17"/>
            <p:cNvCxnSpPr/>
            <p:nvPr/>
          </p:nvCxnSpPr>
          <p:spPr>
            <a:xfrm flipV="1">
              <a:off x="2907360" y="2781000"/>
              <a:ext cx="1080" cy="135792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  <p:cxnSp>
          <p:nvCxnSpPr>
            <p:cNvPr id="819" name="直線單箭頭接點 21"/>
            <p:cNvCxnSpPr/>
            <p:nvPr/>
          </p:nvCxnSpPr>
          <p:spPr>
            <a:xfrm flipV="1">
              <a:off x="2335680" y="3138120"/>
              <a:ext cx="1080" cy="100080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  <p:cxnSp>
          <p:nvCxnSpPr>
            <p:cNvPr id="820" name="直線單箭頭接點 27"/>
            <p:cNvCxnSpPr/>
            <p:nvPr/>
          </p:nvCxnSpPr>
          <p:spPr>
            <a:xfrm flipV="1">
              <a:off x="2621520" y="2994840"/>
              <a:ext cx="1080" cy="114372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</p:grpSp>
      <p:sp>
        <p:nvSpPr>
          <p:cNvPr id="821" name="文字方塊 32"/>
          <p:cNvSpPr/>
          <p:nvPr/>
        </p:nvSpPr>
        <p:spPr>
          <a:xfrm>
            <a:off x="500040" y="421488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alibri"/>
              </a:rPr>
              <a:t>維持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2" name="直線接點 33"/>
          <p:cNvSpPr/>
          <p:nvPr/>
        </p:nvSpPr>
        <p:spPr>
          <a:xfrm>
            <a:off x="500040" y="5072040"/>
            <a:ext cx="1000080" cy="144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3" name="直線接點 34"/>
          <p:cNvSpPr/>
          <p:nvPr/>
        </p:nvSpPr>
        <p:spPr>
          <a:xfrm>
            <a:off x="3071880" y="5072040"/>
            <a:ext cx="1000080" cy="1440"/>
          </a:xfrm>
          <a:prstGeom prst="line">
            <a:avLst/>
          </a:prstGeom>
          <a:ln w="76320">
            <a:solidFill>
              <a:srgbClr val="e7bb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cxnSp>
        <p:nvCxnSpPr>
          <p:cNvPr id="824" name="直線單箭頭接點 35"/>
          <p:cNvCxnSpPr/>
          <p:nvPr/>
        </p:nvCxnSpPr>
        <p:spPr>
          <a:xfrm>
            <a:off x="1571400" y="5072040"/>
            <a:ext cx="1500840" cy="216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grpSp>
        <p:nvGrpSpPr>
          <p:cNvPr id="825" name="群組 36"/>
          <p:cNvGrpSpPr/>
          <p:nvPr/>
        </p:nvGrpSpPr>
        <p:grpSpPr>
          <a:xfrm>
            <a:off x="1785960" y="5071320"/>
            <a:ext cx="930600" cy="1359360"/>
            <a:chOff x="1785960" y="5071320"/>
            <a:chExt cx="930600" cy="1359360"/>
          </a:xfrm>
        </p:grpSpPr>
        <p:cxnSp>
          <p:nvCxnSpPr>
            <p:cNvPr id="826" name="直線單箭頭接點 37"/>
            <p:cNvCxnSpPr/>
            <p:nvPr/>
          </p:nvCxnSpPr>
          <p:spPr>
            <a:xfrm flipV="1">
              <a:off x="1785960" y="5072760"/>
              <a:ext cx="2160" cy="135828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  <p:cxnSp>
          <p:nvCxnSpPr>
            <p:cNvPr id="827" name="直線單箭頭接點 38"/>
            <p:cNvCxnSpPr/>
            <p:nvPr/>
          </p:nvCxnSpPr>
          <p:spPr>
            <a:xfrm flipV="1">
              <a:off x="2714760" y="5071320"/>
              <a:ext cx="2160" cy="135828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  <p:cxnSp>
          <p:nvCxnSpPr>
            <p:cNvPr id="828" name="直線單箭頭接點 39"/>
            <p:cNvCxnSpPr/>
            <p:nvPr/>
          </p:nvCxnSpPr>
          <p:spPr>
            <a:xfrm flipV="1">
              <a:off x="2143080" y="5072760"/>
              <a:ext cx="2160" cy="135828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  <p:cxnSp>
          <p:nvCxnSpPr>
            <p:cNvPr id="829" name="直線單箭頭接點 40"/>
            <p:cNvCxnSpPr/>
            <p:nvPr/>
          </p:nvCxnSpPr>
          <p:spPr>
            <a:xfrm flipV="1">
              <a:off x="2427840" y="5071320"/>
              <a:ext cx="1080" cy="135972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</p:grpSp>
      <p:sp>
        <p:nvSpPr>
          <p:cNvPr id="830" name="文字方塊 49"/>
          <p:cNvSpPr/>
          <p:nvPr/>
        </p:nvSpPr>
        <p:spPr>
          <a:xfrm>
            <a:off x="5143680" y="164304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alibri"/>
              </a:rPr>
              <a:t>延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1" name="直線接點 50"/>
          <p:cNvSpPr/>
          <p:nvPr/>
        </p:nvSpPr>
        <p:spPr>
          <a:xfrm>
            <a:off x="5214960" y="2357280"/>
            <a:ext cx="1000080" cy="180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2" name="直線接點 51"/>
          <p:cNvSpPr/>
          <p:nvPr/>
        </p:nvSpPr>
        <p:spPr>
          <a:xfrm>
            <a:off x="7786800" y="3357720"/>
            <a:ext cx="1000080" cy="1440"/>
          </a:xfrm>
          <a:prstGeom prst="line">
            <a:avLst/>
          </a:prstGeom>
          <a:ln w="76320">
            <a:solidFill>
              <a:srgbClr val="e7bb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cxnSp>
        <p:nvCxnSpPr>
          <p:cNvPr id="833" name="直線單箭頭接點 52"/>
          <p:cNvCxnSpPr/>
          <p:nvPr/>
        </p:nvCxnSpPr>
        <p:spPr>
          <a:xfrm>
            <a:off x="6215040" y="2356920"/>
            <a:ext cx="1572480" cy="100116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grpSp>
        <p:nvGrpSpPr>
          <p:cNvPr id="834" name="群組 53"/>
          <p:cNvGrpSpPr/>
          <p:nvPr/>
        </p:nvGrpSpPr>
        <p:grpSpPr>
          <a:xfrm>
            <a:off x="6286680" y="2499840"/>
            <a:ext cx="1000440" cy="1500840"/>
            <a:chOff x="6286680" y="2499840"/>
            <a:chExt cx="1000440" cy="1500840"/>
          </a:xfrm>
        </p:grpSpPr>
        <p:cxnSp>
          <p:nvCxnSpPr>
            <p:cNvPr id="835" name="直線單箭頭接點 54"/>
            <p:cNvCxnSpPr/>
            <p:nvPr/>
          </p:nvCxnSpPr>
          <p:spPr>
            <a:xfrm flipV="1">
              <a:off x="6286680" y="2499840"/>
              <a:ext cx="3600" cy="150120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  <p:cxnSp>
          <p:nvCxnSpPr>
            <p:cNvPr id="836" name="直線單箭頭接點 55"/>
            <p:cNvCxnSpPr/>
            <p:nvPr/>
          </p:nvCxnSpPr>
          <p:spPr>
            <a:xfrm flipV="1">
              <a:off x="7283880" y="3028320"/>
              <a:ext cx="3600" cy="97092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  <p:cxnSp>
          <p:nvCxnSpPr>
            <p:cNvPr id="837" name="直線單箭頭接點 56"/>
            <p:cNvCxnSpPr/>
            <p:nvPr/>
          </p:nvCxnSpPr>
          <p:spPr>
            <a:xfrm flipV="1">
              <a:off x="6643800" y="2658600"/>
              <a:ext cx="2160" cy="132336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  <p:cxnSp>
          <p:nvCxnSpPr>
            <p:cNvPr id="838" name="直線單箭頭接點 57"/>
            <p:cNvCxnSpPr/>
            <p:nvPr/>
          </p:nvCxnSpPr>
          <p:spPr>
            <a:xfrm flipV="1">
              <a:off x="6945480" y="2851920"/>
              <a:ext cx="2160" cy="114876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</p:grpSp>
      <p:sp>
        <p:nvSpPr>
          <p:cNvPr id="839" name="文字方塊 67"/>
          <p:cNvSpPr/>
          <p:nvPr/>
        </p:nvSpPr>
        <p:spPr>
          <a:xfrm>
            <a:off x="5072040" y="428616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強化、提升、改善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0" name="直線接點 68"/>
          <p:cNvSpPr/>
          <p:nvPr/>
        </p:nvSpPr>
        <p:spPr>
          <a:xfrm>
            <a:off x="5143680" y="6000840"/>
            <a:ext cx="1000080" cy="144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1" name="直線接點 69"/>
          <p:cNvSpPr/>
          <p:nvPr/>
        </p:nvSpPr>
        <p:spPr>
          <a:xfrm>
            <a:off x="7786800" y="5000760"/>
            <a:ext cx="1000080" cy="1440"/>
          </a:xfrm>
          <a:prstGeom prst="line">
            <a:avLst/>
          </a:prstGeom>
          <a:ln w="76320">
            <a:solidFill>
              <a:srgbClr val="e7bb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cxnSp>
        <p:nvCxnSpPr>
          <p:cNvPr id="842" name="直線單箭頭接點 70"/>
          <p:cNvCxnSpPr/>
          <p:nvPr/>
        </p:nvCxnSpPr>
        <p:spPr>
          <a:xfrm flipV="1">
            <a:off x="6215040" y="5000400"/>
            <a:ext cx="1572480" cy="100080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grpSp>
        <p:nvGrpSpPr>
          <p:cNvPr id="843" name="群組 71"/>
          <p:cNvGrpSpPr/>
          <p:nvPr/>
        </p:nvGrpSpPr>
        <p:grpSpPr>
          <a:xfrm>
            <a:off x="6500880" y="5214600"/>
            <a:ext cx="930600" cy="1357560"/>
            <a:chOff x="6500880" y="5214600"/>
            <a:chExt cx="930600" cy="1357560"/>
          </a:xfrm>
        </p:grpSpPr>
        <p:cxnSp>
          <p:nvCxnSpPr>
            <p:cNvPr id="844" name="直線單箭頭接點 72"/>
            <p:cNvCxnSpPr/>
            <p:nvPr/>
          </p:nvCxnSpPr>
          <p:spPr>
            <a:xfrm flipV="1">
              <a:off x="6500880" y="5787720"/>
              <a:ext cx="2160" cy="78480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  <p:cxnSp>
          <p:nvCxnSpPr>
            <p:cNvPr id="845" name="直線單箭頭接點 73"/>
            <p:cNvCxnSpPr/>
            <p:nvPr/>
          </p:nvCxnSpPr>
          <p:spPr>
            <a:xfrm flipV="1">
              <a:off x="7429680" y="5214600"/>
              <a:ext cx="2160" cy="135792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  <p:cxnSp>
          <p:nvCxnSpPr>
            <p:cNvPr id="846" name="直線單箭頭接點 74"/>
            <p:cNvCxnSpPr/>
            <p:nvPr/>
          </p:nvCxnSpPr>
          <p:spPr>
            <a:xfrm flipV="1">
              <a:off x="6858000" y="5571720"/>
              <a:ext cx="2160" cy="100080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  <p:cxnSp>
          <p:nvCxnSpPr>
            <p:cNvPr id="847" name="直線單箭頭接點 75"/>
            <p:cNvCxnSpPr/>
            <p:nvPr/>
          </p:nvCxnSpPr>
          <p:spPr>
            <a:xfrm flipV="1">
              <a:off x="7143840" y="5428440"/>
              <a:ext cx="2160" cy="114372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</p:grpSp>
    </p:spTree>
  </p:cSld>
  <p:transition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支持服務的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9" name="文字方塊 4"/>
          <p:cNvSpPr/>
          <p:nvPr/>
        </p:nvSpPr>
        <p:spPr>
          <a:xfrm>
            <a:off x="428760" y="177336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alibri"/>
              </a:rPr>
              <a:t>培養、建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0" name="直線接點 7"/>
          <p:cNvSpPr/>
          <p:nvPr/>
        </p:nvSpPr>
        <p:spPr>
          <a:xfrm>
            <a:off x="3143160" y="2643120"/>
            <a:ext cx="1000080" cy="1800"/>
          </a:xfrm>
          <a:prstGeom prst="line">
            <a:avLst/>
          </a:prstGeom>
          <a:ln w="76320">
            <a:solidFill>
              <a:srgbClr val="e7bb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cxnSp>
        <p:nvCxnSpPr>
          <p:cNvPr id="851" name="直線單箭頭接點 9"/>
          <p:cNvCxnSpPr/>
          <p:nvPr/>
        </p:nvCxnSpPr>
        <p:spPr>
          <a:xfrm flipV="1">
            <a:off x="1571400" y="2642760"/>
            <a:ext cx="1572120" cy="100080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grpSp>
        <p:nvGrpSpPr>
          <p:cNvPr id="852" name="群組 31"/>
          <p:cNvGrpSpPr/>
          <p:nvPr/>
        </p:nvGrpSpPr>
        <p:grpSpPr>
          <a:xfrm>
            <a:off x="1856520" y="2928600"/>
            <a:ext cx="929520" cy="1286280"/>
            <a:chOff x="1856520" y="2928600"/>
            <a:chExt cx="929520" cy="1286280"/>
          </a:xfrm>
        </p:grpSpPr>
        <p:cxnSp>
          <p:nvCxnSpPr>
            <p:cNvPr id="853" name="直線單箭頭接點 13"/>
            <p:cNvCxnSpPr/>
            <p:nvPr/>
          </p:nvCxnSpPr>
          <p:spPr>
            <a:xfrm flipH="1" flipV="1">
              <a:off x="1856520" y="3500280"/>
              <a:ext cx="1080" cy="71496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  <p:cxnSp>
          <p:nvCxnSpPr>
            <p:cNvPr id="854" name="直線單箭頭接點 17"/>
            <p:cNvCxnSpPr/>
            <p:nvPr/>
          </p:nvCxnSpPr>
          <p:spPr>
            <a:xfrm flipH="1" flipV="1">
              <a:off x="2785320" y="2928600"/>
              <a:ext cx="1080" cy="128664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  <p:cxnSp>
          <p:nvCxnSpPr>
            <p:cNvPr id="855" name="直線單箭頭接點 21"/>
            <p:cNvCxnSpPr/>
            <p:nvPr/>
          </p:nvCxnSpPr>
          <p:spPr>
            <a:xfrm flipH="1" flipV="1">
              <a:off x="2213640" y="3285720"/>
              <a:ext cx="1080" cy="92952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  <p:cxnSp>
          <p:nvCxnSpPr>
            <p:cNvPr id="856" name="直線單箭頭接點 27"/>
            <p:cNvCxnSpPr/>
            <p:nvPr/>
          </p:nvCxnSpPr>
          <p:spPr>
            <a:xfrm flipV="1">
              <a:off x="2499120" y="3071160"/>
              <a:ext cx="1080" cy="1143720"/>
            </a:xfrm>
            <a:prstGeom prst="straightConnector1">
              <a:avLst/>
            </a:prstGeom>
            <a:ln w="57240">
              <a:solidFill>
                <a:srgbClr val="00e4a7"/>
              </a:solidFill>
              <a:miter/>
              <a:tailEnd len="med" type="arrow" w="med"/>
            </a:ln>
          </p:spPr>
        </p:cxnSp>
      </p:grpSp>
      <p:sp>
        <p:nvSpPr>
          <p:cNvPr id="857" name="橢圓 44"/>
          <p:cNvSpPr/>
          <p:nvPr/>
        </p:nvSpPr>
        <p:spPr>
          <a:xfrm>
            <a:off x="1071720" y="3500280"/>
            <a:ext cx="42840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3:27:22Z</dcterms:created>
  <dc:creator>wenyen</dc:creator>
  <dc:description/>
  <dc:language>en-US</dc:language>
  <cp:lastModifiedBy>user</cp:lastModifiedBy>
  <dcterms:modified xsi:type="dcterms:W3CDTF">2015-08-06T05:21:06Z</dcterms:modified>
  <cp:revision>77</cp:revision>
  <dc:subject/>
  <dc:title>成人心智功能障礙者服務剛要</dc:title>
</cp:coreProperties>
</file>